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0AB2-8CE1-43CE-8926-94509078BD8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EB8F-CD56-47C1-8DF1-AE130042E8B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16BB-A7F9-48C3-8F01-905B23165B4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90E4-4CB3-4154-8C56-9D86CDF562E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9CF2-A310-4165-A49E-716A672829C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B9C4-618A-4C4B-B129-84D2F32CF75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37E5-DBDC-4125-8724-5C0B5DA97A7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CE83-EF73-4804-9DB6-794A30308D3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6718-A5EB-46D7-A6D8-D011105E6E4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B8DE-F3C9-4811-B829-5CA16C49166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E82B-8D90-45EA-9B3B-5DDB6262DCA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97A9-4401-41C8-B60D-B746672DF5B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45FB-F14C-4446-878F-E734C05EA1E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209E-7CBD-4198-8AAF-143BDD2A039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B1DE-F184-479B-A1D1-1CF7960FA17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39BB40-9071-449E-BE0B-0ACF0D974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7107D0-E607-46AB-A0CC-E799687DA5D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B1021D-7684-4D08-8610-0B139FB5FFA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978AC9-C1E5-4875-861D-08CB8999F5D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EBE158-968A-4A9C-AF8C-B4787A68638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338A8A-0A30-4FB7-ACA4-763BDC626CA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CAD7FF-4B72-496C-BAC1-E3F4C7013FF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3D614E-DC5D-4026-922D-CDA998130D3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DA4DB2-9A28-404A-94EC-EEFF6E46FA3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308FDD-1367-4238-8A5B-CCF3A5DB974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8033D8-268E-4579-ACEB-0F029E90A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776E37-FE38-4B80-B0EB-801EA763DC7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95D65-B166-4D4A-BEA6-7CFAB2C0338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FADD54-4D9A-4A2C-A92C-221AD8EE847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C77AE-3A8A-4E8A-B35C-C1E1269437A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2440E-1DD9-4F9B-8E54-A49AA6C5A84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80B4D-842F-430D-BB3F-3A271A8422E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E9C30-9BCA-4A1F-915D-BE1FCC0A216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F9F62-DB5B-494D-A8E9-60DB8C25F5D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E6491-C30B-4B4A-B548-C3E5A7B5724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29807-9627-4321-B50E-4C776369B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DCFE-E24A-4B64-B42D-343306171A4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11D9D-2715-4A12-B54A-8F2B9C45EC2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70678-29A2-4704-91D1-B810AB4B047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F3D3D-E6A5-4C94-A227-809D8B640D7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BD328-F4F8-4623-96BB-2E8B2C814DF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1372F-31F6-48F6-B01C-945A0E35285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459FF-C88D-41CB-BD28-A2FEDFD4ECE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05FBC-22A3-4930-A868-8EF9F857D91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2E5C9-CFC2-4AAF-B506-77131957636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B3C67-2A10-4F57-A14E-F5A0A0AC911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C4EF5-7CEB-4573-8B01-A4EAD5103A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2BD4-B913-4C05-81DA-988103A4A6F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0AF71-B95C-49F0-BEB1-7B2C3431195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03D1D-DED3-49D3-B3F4-77437FC16E7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FF374-A55E-47FC-BC2A-05EC57D9936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F5EDF-4046-4FE7-8093-7D78D1CFB30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AE333-C4FC-4AD6-9F08-AA63C2A1E02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C04EA5-CC02-4DDB-ACEB-4922C6D1155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29A65C-1C3E-4F4C-93DC-D72C3710D83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2CEEA2-C996-4BAE-A7E8-EDC03A4AAA9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BC4F55-AB89-4981-8C98-0FB491B01E3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42A0A2-D995-47A7-857B-0A7D2FF8F6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0577-B428-44CB-86CA-96E29F77969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555538-BE94-4DD5-9C4C-D4F914AFE09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2E6DCD-D4B2-4C95-B57C-307CC7C2049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DF8B25-856B-438B-B1AC-1F168DD04E7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F61DA5-47DA-48AA-9D8A-34046A5AE98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CEF5D9-B867-47F9-9333-7A11D70B592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D9A52A-0E3C-4E5F-9E0C-10CF2AAA94A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7AC54F-C3DB-42DB-BFEB-84A600589A6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C31CB3-2745-41E8-9C9A-7874F9BA531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B5C864-FB45-48DB-8B47-20C4EDA6699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E91D5-F74E-47C1-96CF-A9059AD536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E6CF-0127-443E-B0A2-A310D1A18BB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1F14AB-FD5D-46DE-81B1-DFE60AF42BF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B72375-7AEF-4F28-8154-10057A5D404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A61D0-78E3-4987-9E6F-5813AA6D179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BDAE8-5CE0-43FF-8071-26570734362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B49E0B-C4C0-45B3-BB8F-9D750859AB2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462886-EAF9-4311-A6B1-4C3F59C7C68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B76A9A-992F-464B-A051-29E5D20EEFB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06C80-606F-4074-8FF7-9BB5B6884B4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7C9A61-F2B3-4820-860D-79BB543A172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08C74-BF4E-4CB9-A045-6C030CC9E3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04DE6-F472-454A-AD1E-32438BE450E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18030-ABD9-4239-9E58-C2A184203A1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3221C-8C4A-4BA7-912E-DF262A08029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41078-121B-485D-8FF5-CD105C1EED2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0C666-41CA-4415-8602-423CE5F9D1E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59C52-33AF-4C20-B9A2-4DB5D2831DF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6272C-59FC-439D-A99D-25B519EB0BD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C8B6B-7C8F-488B-A5F0-DF3501F6EF2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4AACF-E0EF-4965-B6E2-52F36DDBF55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98901-7AC1-4B91-966A-D836FDC41CE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2AB8E-A31E-4705-9BA9-2534307C94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0931-B7C0-4A89-988A-39390D58E97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2D27A-235E-4402-A601-AF089D21F95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F8ACC0-CDF6-4D3D-AC3D-0FD6D0AFA14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F3E0D6-0015-4E69-8A09-217AC1BDAC9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D810BD-C6AE-464A-A5EE-380031BDB6F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3091E3-979E-447B-B549-6C57405A33F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2C0E70-9BA5-4ECF-8737-EB78379D04B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95DF42-E74B-4A4E-AF55-22CFBE83E08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C4BD96-B77C-4C59-AE54-20454B57770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73AF28-ADFA-4286-ACAD-15B7BBF3B49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32FC53-08A3-4661-BC01-2784826226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474E-F7F0-4CC4-8E42-B4317B54B6A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6139A1-33A8-46CA-BE2F-C8F381BDF58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5B8CD4-E90F-40E1-9FAB-94A079CA7EB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8641B1-A89F-4B6B-BFC2-CA69A2CF8DC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CD0208-8363-472C-BA85-46CDE43580A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8382AD-E699-41A8-BD3F-42D02335AEA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4664C9-B74C-41B0-8629-85BBA3FF483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A50DC3-E811-403D-AFB8-CC96A17CCAD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43D8B7-BD3C-4308-B558-955B4A962D1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25BF4E-919E-4D15-8A20-EAF69F3B677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64C8AC-E3E0-4F30-A1D5-0334E94BCE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587D8-BC27-4E6E-B9FC-6735FCED959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640ACC-B9E1-47DA-A588-2F76C2910A0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B52359-193C-49DE-B9AB-DA33F73F0F2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210701-AC07-4A8B-AA8F-378B725D539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725ED7-EFFC-4D44-9A23-3706DE603DB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6848C5-C7CD-4240-95AD-FB60ECB5205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EA3B9-9DDA-405F-A508-8006116D348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2C3BB-F198-42CB-B28A-02AD0DCC9A3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625FB-F683-4E05-A618-DFBE4E0A51A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3FC3F-0F6E-40A4-AF65-8C0AD35CD4C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E8239-71A3-4147-96ED-2BD0A49E4C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08B8A-CB2A-4190-A566-44D929A367F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8887B-486C-4CAF-B08A-50CF8686A7A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644D6-4321-4072-BF2F-9D537607A9D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31D35-A8EF-4E3D-B831-7B990DD5E50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63EAF-67BE-4665-A96D-1DE508868D0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5227D-D3BF-481C-ACE8-2A951733368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D25BB-9177-4DF0-B6EE-3E922FF8448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7545F-DB22-4749-A023-8FDE5E7EB9E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D82E40-96A0-4690-B69E-97E0D301365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6B1F7D-3DAA-41DF-9DF7-8302E2DF00B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8F60A0-9976-43A1-933A-08950FF9CC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E829-B647-4355-BC87-BF3B428FB5F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7FC203-7D18-4E86-B3E9-3C0DA3F5274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129525-D5C5-43BF-A767-63A203A3932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4CEE7F-1F10-45EC-9D8D-15FC5EC3D42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E1010F-1DF3-4946-BE8A-4AECE76CAB3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A3DE94-499E-4EF7-ACE4-EEF184229F4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432549-88A5-49C2-85B7-5CBCBCE23E9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462260-A55F-45B8-BD7A-74E1CB14728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670639-9C9D-411B-8AB9-6D8BF144EA6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E28C3D-A41D-4606-996F-4A66A37CA0B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1D236A-7CFA-4986-8206-31506299A9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76F0-4D41-41F6-83F7-60973A2C31A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280377-22EB-4A73-9A91-67EBA72A0DB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FA8CB8-F3A9-4DD8-BE91-718168C1E19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A3367F-C01E-4EAA-9589-D3C635C6CF6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5F90C2-F944-4E66-88DA-8B162178F2A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B8A18F-0BE4-4266-B0DB-FCA42D44879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32283A-9CA2-42C9-9324-9AF2FFF1C6D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10DD57-1153-4B12-AD47-199ACC37A96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27CECB-EEA5-4D3A-AD78-D8BDE2B68F8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8ABEBB-D3D6-4559-9B22-A11A448F622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08507D-0390-41CE-88CD-5F68DA0509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D4274-BA9A-42F0-B060-118FF0F8F39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F30D69-5940-49FB-B34B-0B1DA17D55B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F340A-A36C-4276-BB4E-1C0FF9357BA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5665E-87A9-44A8-82A4-AB24E287162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C8CF3-0692-40CA-B45E-C505BA40D6D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BDDCE-FD39-4158-859F-C77133AAE81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D07E9-D0D3-41B4-AFF6-ED63E95343B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40898-041E-43B5-869F-4970E8728A3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48F95-A8F1-4CE9-97DB-704F98A3BD1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22809-06D9-45A3-B67A-BB6B7DDC48D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ED07E-5EE2-4309-B6A9-400538B038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C53E2-86E5-434F-8D9A-ACB79FD940A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87E6B-F5CC-482D-B63B-4457558ACF9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2D743-17E8-47B9-A276-5995E125399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DF011A-ACC2-4F20-A634-CEF90DAAAC2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1B1464-9BC0-4A55-878D-CB2BDEE7854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8A05A1-03AB-43B9-9456-6EDF35A6614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E43E60-C175-4726-8EA7-2C7E27150B4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C4A352-E31D-43F3-815E-3E01702E4CA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6F7B63-B39C-4AD0-90DA-7C4ED6A500E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5CD220-D006-44E7-AADA-75F4C75A7F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55CDF8-E009-428D-AAA5-25B76934B7E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3817A6-9E62-42FA-85FF-001D865840B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6A7860-2A88-4605-93E7-E12974C06D6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C7C80C-80CF-42EA-8925-6056F32E4F9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9B2FE7-EAB2-40EC-9730-8B048479B8C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C4181D-1DAE-4564-AC0C-40DBD6F3FDF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9C93BF-49EF-4D14-A61C-0DF84155605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CCB41F-C6C1-408F-B056-3D65F3CDA1B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98EBB9-DDD5-407B-85BE-F64C948C8D7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5FC49F-F31F-4B01-B289-2150FC6679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EDF896-B5C9-4E79-9561-D414CBCF58C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7BD69A-2B90-4342-B6BA-C2BDDDEF749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479CDA-6294-4A27-B717-4668457B721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EFCE09-751F-4AC1-9C26-C0B7F60AD8A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1C1999-B565-46AB-B1FB-E46F8AE6698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0CA4D9-DB08-4AF7-8090-338850017E5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88EE12-8C5D-4099-9D74-017336400F2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8830D-A36E-4AE2-B14B-A52EB4DE5F8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BA4BA-8AAC-414B-A290-A9EF75262FB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C4454-63DC-4075-9914-1191A81D06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E53F7-3B4F-45E1-B6A4-C18D884DACE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57E42-170F-4672-AB0D-302C0CE2FF6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EEC43-E399-41AB-96F0-5B09D1ED0B0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60B1D-D78A-4EF0-94C5-F1791B3E4C6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06202-2948-40D4-BFBE-402C42178A0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F7481-D891-4EF7-9D23-A7815277555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9E00F-9BD2-4644-A6F4-F5D6A740EAF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790EF-54AC-41C0-BF3C-58403C77783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6BAC3-F2E7-4563-B62D-74FFD152412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580C19-0B20-48DB-A725-5A7D9EB3FA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DA1A44-AC02-4549-B834-B77C578B68C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8DA9F8-DEFD-41A9-9D47-197DCAE0C9B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19F5E9-F6B7-46C1-9F81-424D90A82D2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955FBC-62C7-4AB4-BB3F-5909A8226BF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487AD1-AF90-4DA9-9B27-E72816488F4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197307-AAC0-4CD0-A1F3-BC605C79AB3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BC0D64-6B42-4B45-96F3-2BE5CD873D6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BC00C2-8722-4BD1-A198-ADF295DD0F1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059371-E09B-4463-9538-B375476748C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ED81CB-54A9-4164-90A2-37437AB5A6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00AB07-A4EF-453C-A65A-C18DC50B8C4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869748-9A6D-4211-BACF-B1CC8898987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DFA47A-6273-45A4-A71D-99DE41F5FFE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3D4732-45FB-441E-9191-26CE8DF4EF5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2494AC-627F-4BBB-8B35-A95CFEF1BC8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C06B70-B651-4CDB-8DC3-65F0140E730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1FC0DB-46F4-448F-8577-7888852B014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12216C-86FC-4743-BE5E-9089DE48A7A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7CC72F-C31F-4D36-BCED-3BF7B525FFC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A2E76A-E55D-4B04-A6BC-776431D81D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9E8874-01FD-4BFB-8AAB-DCFC095BC40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D4E430-056C-43BC-A21A-B5589978926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CF137B-A3E4-43BF-8EBA-DC3583D07735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06766-4509-41DC-84E6-A74EAAFBA19A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F2B36-EB2A-486B-AF02-7779BFF9CF2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824A7-8EF1-4C41-8859-CD4291073335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522AB-43BB-4B32-A928-5FE3FADE316D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B5439-F4DE-4A50-AD81-20C6D0A6DE1D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E19FE-1C22-45BA-AD1A-BEA40B111067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9C36D-1368-4A64-B7FA-0F5BC23C1C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C1D1B-6685-46C2-8CFB-A2FDE43A8D34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5C119-124D-432D-8B04-62517E0EBB99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2EA13-22EA-40D7-B3E8-6D47E19901AE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E0A78-C198-4B5E-9193-E84FAF7C4A63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C04B5-F55E-4D88-8E97-418F757CF55C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62719-83E6-48F0-9448-FA7FE0983D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F19AB-84BA-4AE0-B554-29BF1A1EC6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EA282-1DE0-46A0-ACEE-5A1085A18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FF94-B436-42FE-BBCE-2A3C89A18D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F1501-93B2-421C-8F3F-F9AFC3F839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751A0-A35B-4EBC-A52B-AB4D3E5F452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9BE29-8F20-4AEE-8EE7-634420E823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95291-796C-4741-8C37-2C674A3B46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3F8C5-EA84-4445-99D8-4019EFE6A3C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1FF1-B1DF-4C33-BE55-6F1CF3CFE8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9092F-C6CD-471B-9A14-CE567A39D7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575EA-95D3-4B67-8F4D-13783C49519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4D5-F57C-4D45-93C8-196D64CA12F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B66-03E7-44E5-9D35-4C43A678F7C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A03-3DCC-44A4-9481-5F7E4F57E57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218-248B-487B-87B5-F12993ED7E6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7D41-327D-4C88-ABE0-9D945C49020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C39-5B1F-4072-A013-8FBF5D9AE20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999-2050-49FA-86D2-D04D8F2AA38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05B-45E5-4377-8C89-A86A6E7CC18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FEB-4E5D-415B-A76B-03F8918AD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8AB-60E2-45AF-818B-762BD64F111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4EBE-A4BC-4FF7-B163-CA8E4C77015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B28A-FCBC-4E9A-AA35-855CB6645E3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D42E1-F7F3-4CDD-A6C1-E72F7F08034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879E7-61E6-4AF0-8356-48FDD987737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EB201-4FB0-4D2F-B90B-F23F0EA5FAB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BA0DA-E5F7-468A-AACD-64E0A7D929B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C1EA8-3910-4F2F-ACD0-EE4D7AA2519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8D73B-9A32-4620-B37B-407F1A44CA0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DF9F3-51E6-4AA7-920C-ED97CA2ED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D1CE6-F39A-4957-AE44-D36597C99D6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2A2C3-AAF0-436E-915A-1841E779FC0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4AD29-BE36-4C0E-8914-A462FA4761A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D4506-D300-4820-A208-CB057F257CF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8C02D-28A1-4B4D-841B-71CC08A662D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6B4A7-CBE3-4FEB-9D96-5B77BD95FA9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C5892-C6FA-40AF-B739-D85579AF155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2F6E6-8761-44BF-83E6-52B88C8266A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445A4-9592-437E-A0A5-951AD2CF808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6FC0E-30B4-43A1-A1E9-A75F9BD6F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90671-C3C5-48E7-89A3-8927B57E64D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71561-F2FC-4014-9DCD-A5A35540A92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96673-8753-4CBC-90A2-7DD07037D0F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E97AA-0D84-4396-8046-BBF83DB00A1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EFBF1-89E8-41EE-8362-52AA891ECF5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DE64C-96C6-46F8-BE22-7B3208BEA9E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BF765-89AF-4E8F-95B9-26C6E88686C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2A44-08CA-4167-807A-1A1B7487625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4B6A-5F98-4F21-A6AD-A3EDBA125F9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DC77-5A91-49C4-B561-9AFA8E211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7DE1-D94E-49C0-AB4B-367A5DEEB2B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F550-673D-4045-98F1-C12FF51C22A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708F-248C-499F-88BC-7F7FF275C49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62EA-8B32-40D0-83AE-7C001C259AF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85A0-9BE2-4CE5-8AF4-09C8A914BA2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2914-7D21-4566-A31F-B5B75219254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6075-6205-4C08-90C1-DE7C1915EDB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E629-327F-4A62-A91F-6A835538880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AEEF-AFDE-4234-AB49-DE57EECDCEA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5058-1BC9-49D6-B547-70C6759F5EB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3E83-06F4-4135-B25A-3B4C06277ED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C6AF-ECB1-44F5-999C-1583B2E81E0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A4FE-C636-4A22-A064-F7E20FD15C9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34CF-6C99-4B40-A2A3-2854830B011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ECDD-216A-4101-A391-495BE777E6F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B11D-99B7-4F20-906D-66710F2D7DF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57EC-299D-406C-AC55-D90C6FF03F3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4CE6-86DD-4379-B665-164DDC6413E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8361-DCD0-4E4B-B7D0-771DF0F5794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1A8E-E6E7-4FBD-B234-C9EDC4B2DA7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98C0-9692-4B01-A645-43A8FBDD00B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6200-2DB8-4C11-A006-5CB18DA506C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F120-6D87-43AC-9993-A0F49674490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DF7A-A2AF-4598-8926-0BB7A520BDD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789360"/>
            <a:ext cx="806436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Medellín 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C, Diciembre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El área metropolitana de Medellín, incluye el Valle de Aburr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685800" y="682560"/>
            <a:ext cx="74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250920" y="5157720"/>
            <a:ext cx="8353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9" name="1 Imagen" descr=""/>
          <p:cNvPicPr/>
          <p:nvPr/>
        </p:nvPicPr>
        <p:blipFill>
          <a:blip r:embed="rId1"/>
          <a:stretch/>
        </p:blipFill>
        <p:spPr>
          <a:xfrm>
            <a:off x="485640" y="1446120"/>
            <a:ext cx="7883640" cy="3591000"/>
          </a:xfrm>
          <a:prstGeom prst="rect">
            <a:avLst/>
          </a:prstGeom>
          <a:ln w="0">
            <a:noFill/>
          </a:ln>
        </p:spPr>
      </p:pic>
      <p:sp>
        <p:nvSpPr>
          <p:cNvPr id="1290" name="6 CuadroTexto"/>
          <p:cNvSpPr/>
          <p:nvPr/>
        </p:nvSpPr>
        <p:spPr>
          <a:xfrm>
            <a:off x="1265040" y="4941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1 Imagen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41880" cy="3448080"/>
          </a:xfrm>
          <a:prstGeom prst="rect">
            <a:avLst/>
          </a:prstGeom>
          <a:ln w="0">
            <a:noFill/>
          </a:ln>
        </p:spPr>
      </p:pic>
      <p:sp>
        <p:nvSpPr>
          <p:cNvPr id="129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3"/>
          <p:cNvSpPr/>
          <p:nvPr/>
        </p:nvSpPr>
        <p:spPr>
          <a:xfrm>
            <a:off x="1371600" y="6984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4"/>
          <p:cNvSpPr/>
          <p:nvPr/>
        </p:nvSpPr>
        <p:spPr>
          <a:xfrm>
            <a:off x="395280" y="544500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6 CuadroTexto"/>
          <p:cNvSpPr/>
          <p:nvPr/>
        </p:nvSpPr>
        <p:spPr>
          <a:xfrm>
            <a:off x="121104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1020600" y="6969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6"/>
          <p:cNvSpPr/>
          <p:nvPr/>
        </p:nvSpPr>
        <p:spPr>
          <a:xfrm>
            <a:off x="468360" y="5229360"/>
            <a:ext cx="8136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^Jornalero y peón está incluido en la categoría Obrero, empleador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*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4" name="1 Imagen" descr=""/>
          <p:cNvPicPr/>
          <p:nvPr/>
        </p:nvPicPr>
        <p:blipFill>
          <a:blip r:embed="rId1"/>
          <a:stretch/>
        </p:blipFill>
        <p:spPr>
          <a:xfrm>
            <a:off x="135000" y="1494000"/>
            <a:ext cx="8469360" cy="3616200"/>
          </a:xfrm>
          <a:prstGeom prst="rect">
            <a:avLst/>
          </a:prstGeom>
          <a:ln w="0">
            <a:noFill/>
          </a:ln>
        </p:spPr>
      </p:pic>
      <p:sp>
        <p:nvSpPr>
          <p:cNvPr id="1305" name="8 CuadroTexto"/>
          <p:cNvSpPr/>
          <p:nvPr/>
        </p:nvSpPr>
        <p:spPr>
          <a:xfrm>
            <a:off x="545760" y="5013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6" name="1 Imagen" descr=""/>
          <p:cNvPicPr/>
          <p:nvPr/>
        </p:nvPicPr>
        <p:blipFill>
          <a:blip r:embed="rId1"/>
          <a:stretch/>
        </p:blipFill>
        <p:spPr>
          <a:xfrm>
            <a:off x="882720" y="1413000"/>
            <a:ext cx="7377120" cy="3481200"/>
          </a:xfrm>
          <a:prstGeom prst="rect">
            <a:avLst/>
          </a:prstGeom>
          <a:ln w="0">
            <a:noFill/>
          </a:ln>
        </p:spPr>
      </p:pic>
      <p:sp>
        <p:nvSpPr>
          <p:cNvPr id="1307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3"/>
          <p:cNvSpPr/>
          <p:nvPr/>
        </p:nvSpPr>
        <p:spPr>
          <a:xfrm>
            <a:off x="1582560" y="520560"/>
            <a:ext cx="597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6"/>
          <p:cNvSpPr/>
          <p:nvPr/>
        </p:nvSpPr>
        <p:spPr>
          <a:xfrm>
            <a:off x="749160" y="5229360"/>
            <a:ext cx="73519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Jornalero y peón está incluido en la categoría Obrero, empleador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*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8 CuadroTexto"/>
          <p:cNvSpPr/>
          <p:nvPr/>
        </p:nvSpPr>
        <p:spPr>
          <a:xfrm>
            <a:off x="83304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89080" y="51264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160560" y="5516640"/>
            <a:ext cx="803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“otros” incluye: incapacitado permanente para trabajar, rentista, pensionado, jubilado, personas que no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6 CuadroTexto"/>
          <p:cNvSpPr/>
          <p:nvPr/>
        </p:nvSpPr>
        <p:spPr>
          <a:xfrm>
            <a:off x="1482480" y="5254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1401840" y="1413000"/>
            <a:ext cx="63403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2777760" y="55562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300320" y="692280"/>
            <a:ext cx="687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Total 13 ciudades, áreas metropolitanas y Medellín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agosto – octubre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2217600" y="1928880"/>
            <a:ext cx="56674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2 Imagen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681880" cy="1656000"/>
          </a:xfrm>
          <a:prstGeom prst="rect">
            <a:avLst/>
          </a:prstGeom>
          <a:ln w="0">
            <a:noFill/>
          </a:ln>
        </p:spPr>
      </p:pic>
      <p:pic>
        <p:nvPicPr>
          <p:cNvPr id="1325" name="1 Imagen" descr=""/>
          <p:cNvPicPr/>
          <p:nvPr/>
        </p:nvPicPr>
        <p:blipFill>
          <a:blip r:embed="rId2"/>
          <a:stretch/>
        </p:blipFill>
        <p:spPr>
          <a:xfrm>
            <a:off x="1514520" y="3716280"/>
            <a:ext cx="5629320" cy="1724040"/>
          </a:xfrm>
          <a:prstGeom prst="rect">
            <a:avLst/>
          </a:prstGeom>
          <a:ln w="0">
            <a:noFill/>
          </a:ln>
        </p:spPr>
      </p:pic>
      <p:sp>
        <p:nvSpPr>
          <p:cNvPr id="1326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Medellín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1308240" y="404640"/>
            <a:ext cx="68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ntioqu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46124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0" name="1 Objeto"/>
          <p:cNvGraphicFramePr/>
          <p:nvPr/>
        </p:nvGraphicFramePr>
        <p:xfrm>
          <a:off x="1143000" y="2060640"/>
          <a:ext cx="717084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1" name="1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60640"/>
                    <a:ext cx="71708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Medellín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Calibri"/>
                <a:ea typeface="Calibri"/>
              </a:rPr>
              <a:t>AM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733104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-109440" y="249228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– octubre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2692440" y="2317680"/>
            <a:ext cx="5754600" cy="17460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2868480" y="190440"/>
            <a:ext cx="574200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1 Imagen" descr=""/>
          <p:cNvPicPr/>
          <p:nvPr/>
        </p:nvPicPr>
        <p:blipFill>
          <a:blip r:embed="rId1"/>
          <a:stretch/>
        </p:blipFill>
        <p:spPr>
          <a:xfrm>
            <a:off x="1168560" y="1859040"/>
            <a:ext cx="6651360" cy="380844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187280" y="711360"/>
            <a:ext cx="67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Medellín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– octubre (2006 -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1 Rectángulo"/>
          <p:cNvSpPr/>
          <p:nvPr/>
        </p:nvSpPr>
        <p:spPr>
          <a:xfrm>
            <a:off x="1187280" y="56498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Medellín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1-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55376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695600" y="1835280"/>
            <a:ext cx="62197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7" name="1 Imagen" descr=""/>
          <p:cNvPicPr/>
          <p:nvPr/>
        </p:nvPicPr>
        <p:blipFill>
          <a:blip r:embed="rId1"/>
          <a:stretch/>
        </p:blipFill>
        <p:spPr>
          <a:xfrm>
            <a:off x="324000" y="2178000"/>
            <a:ext cx="8640720" cy="2114640"/>
          </a:xfrm>
          <a:prstGeom prst="rect">
            <a:avLst/>
          </a:prstGeom>
          <a:ln w="0">
            <a:noFill/>
          </a:ln>
        </p:spPr>
      </p:pic>
      <p:sp>
        <p:nvSpPr>
          <p:cNvPr id="1278" name="Rectangle 4"/>
          <p:cNvSpPr/>
          <p:nvPr/>
        </p:nvSpPr>
        <p:spPr>
          <a:xfrm>
            <a:off x="2050920" y="549360"/>
            <a:ext cx="48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Medellín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– octubre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Arles Daniel Mayor Pachon</cp:lastModifiedBy>
  <cp:lastPrinted>2014-10-03T19:22:21Z</cp:lastPrinted>
  <dcterms:modified xsi:type="dcterms:W3CDTF">2015-12-10T13:45:50Z</dcterms:modified>
  <cp:revision>950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